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0B0-BC92-41BF-9BD8-D1EEF928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24B-8C66-4A6C-BA92-9397B721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F3664-1298-4BA1-964F-434653B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43E4A-9501-41DC-8D58-EC4C2518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C742E-36C5-4DA2-90AB-BC49A37B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50675-FC1E-466B-99CA-4E64817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72427-A07B-4A94-BA69-A8DEA85D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94004-91E7-48C9-AECF-C1DA0B2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7613B-863F-48CA-A4A4-0BA84436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0A171-B2E2-4D8D-B787-646AAD3C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EF77E-945D-4401-9701-CEE0DBDA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2B27B-9EF7-4FC8-9424-11B3D29D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2E7-A7CB-4B8A-9946-6B383CAC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DEE2C-E0C3-4682-A894-FAEFA175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4E70E-C5B4-471D-A42E-E17CF6E9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45554-6AF0-4C8A-8FF3-07D83B5F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3D841-F625-4BA2-86CF-EE9998AB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4520D-BA71-40FA-BF1E-C165A8DF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D2C3B-1C97-4C3F-AB44-310FC8C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13F6E-BF8F-4351-902A-4037204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0B394-3428-43E2-9A14-8BF7F3E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760C4-FEAC-41AC-A175-E0CD6B2B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4FACD-67AA-419F-B0DE-61AC2958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D1F-A451-49D3-B183-05E8167C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6C3A1-4E24-4BAC-84EA-27CC33C8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E64CE-B8B2-49B0-964C-A500AA0A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06A6A-04E2-46B1-8A4E-90DE3D49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8D9DD-10A2-40D0-B561-7C721632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BDC35-0A6C-4049-AC29-4DCE30DD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D7FBE-00E2-495B-9974-1AA81143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F514D-B7D5-406D-B9FB-016F631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40B32-5BD6-4FB4-9269-5C667A6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E35BF-A047-4493-80E6-767A9B76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85768-ACFF-4223-A71D-E7BCF182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DA4B-9900-4F89-BCF7-0324697C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5A638-5473-4A30-B16F-389F99D9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9FBFA-1F0A-452D-89B5-DD4788E2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36847-9F8C-4E2E-A2F1-DAE797C3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57DCD-EB42-4096-9C1E-18071C42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37993-9ACC-40FC-81F7-C4F70261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3EB01-89BA-4197-A7A4-B38EC17D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DB413-2517-4AAB-BBDB-1C00A66A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7FB1B-F885-4F30-AEAD-97306BAB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9BE9F-17C9-4594-B289-1276D5FE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A0FBE-729B-4C02-8E5D-3F825DCB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9D9B-ED13-41A8-BE46-06EB8906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859A1-5503-49E0-9ABF-32F4866B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66F6A-B0C5-4DF9-9CA1-3097A73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19651-91CD-4D7C-9AD9-215B1E59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67ABE-C08A-445C-8E8A-392E832D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2A96E-695E-4FDC-A6F6-DCDEE29D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BD74B-332D-4014-9882-321DC20B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0FE70-99EE-4443-979D-654627CA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2D64F-2037-4CA8-BEB9-9CF24772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709CF-1399-4509-9655-2EEAB9C1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08B2D-92F2-4CCD-B2B9-204D511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A5A-D30A-4B0F-885D-77F8DAB8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50762-959E-43C1-9E90-A3B56159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F340C-98EC-41A2-B069-66B59B18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6C402-8821-4A67-804E-05F5F685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6A2A2-57C3-43E3-B934-3227E4E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D4862-744C-4D67-BE79-360FC126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A9A29-A001-400F-A501-BA435FDE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B0EC9-CC48-4F27-B831-6B2BE1C4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B0B14-4764-4E90-B306-5776045C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ED389-9AB8-4A48-9086-B1C523E5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59BD7-8725-459D-ABAB-37F86576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FD5C-8E41-4A00-9A66-9538DFF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33059-5E19-495C-A2AF-C606FEC8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5AFFF-814E-4971-BFCE-75F9E05E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60A77-9C72-4DC5-849D-A1AF196A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9BA0C-107B-4F6C-9DB5-979A26EB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D4EDA-A84B-48F4-8321-8AEF17B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F4C6A-3BF3-4609-81B7-787242EC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A10E6-6BEC-431F-A0AA-C0642666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94C01-E243-46A1-BFA3-AAAD80E2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B337F-D993-4CB1-B0BA-333294BB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297B0-C2B5-4736-8FCF-9C152C0C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54F3-80B1-4E23-B6C7-1C699576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246D2-0139-4870-B45B-A26C93D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4C89C-403D-49BE-A20E-71607099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EDF7D-2B2A-4741-A13A-D717C982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1BD8F-B568-41C3-8AD7-DA22290C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F7329-CB08-40A7-B4ED-B835AE8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0293A-D9F9-406F-8B19-02C06E7D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B3340-C937-4003-BE3D-0977B602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FD1B6-CA32-4832-88DB-453099C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7C7FF-0B83-49F4-B26E-72AF1344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A615E-4935-4DD8-AA8D-34C8E2EF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D4F4-B65B-4CA5-8922-6C0EA97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DA41E-CC14-43E5-91D8-B2CF490A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E04E6-F560-497E-BE3D-25B55E59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C21D7-09F3-4B7F-94AB-145E4332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D0E94-4F9B-4FEE-8A1F-ED7F53A6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B2017-7D39-48F6-BDA9-5A03C210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F16F7-4DE6-4416-9EC4-F6866857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32D3D-66D7-4A53-9B86-1542E744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68DF73-1419-4866-98DA-F4F30BD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64843-AD72-48EB-93AC-5672E676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7D343-4A04-4D5C-8E94-D0EC31D4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443D-A379-4B67-9B26-3C9C485A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F372E-CF8D-47D7-8E14-553624B3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06297-6E81-4181-82FA-8AD35647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0D9B7-FCA7-4970-B62A-2B4FDDCF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92DDB-1BED-4BB2-8158-7C36E09B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B04B8-0691-40C1-AA29-A6AAF3E1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8FB6C-23BE-4D3F-A652-FB69FFB5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6A109-72F2-40CA-B18F-FD5AF2F4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D967F-03DC-44C0-9578-524E0FD1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FF6E1-E9D5-465A-9523-D2F5F47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C9838-660A-43AF-8D92-6E9E0B7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96C-8413-483B-AE56-7FE37C20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64E9-3A01-4927-BAE4-1286E3EC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41A4D9-C368-4C0E-9631-9514C6F3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541C9-1FCD-4947-B2CA-999F6F2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078A5-DDCC-4269-828E-60DFE8E5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25146-56D0-4779-AB62-ED25EDC7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AD2EA-5F2E-43A3-A056-9DA323BF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9EEF0-191E-4C86-A75A-A8CFF4E0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C390F-93DF-4B11-9693-5768CB74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77AEA-D473-4C21-B826-C651F9F8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356DD-E7A1-403D-B17F-B651BE50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E20B5-6605-40E7-95D2-0C2762DC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29CF-A358-46ED-9671-B96D5B29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AE46D-E814-44B3-B78B-04F590B6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84CBA-7A5D-4FE3-A828-E95CC2BD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0A97B-8296-464B-84D5-BA01372A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88738-B838-4A2F-9FF2-7D55A54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326D2-9203-4E24-BDAF-BD1A6E43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E14A7-72E9-4D0A-BBE3-DA980BEB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E583A4-614F-47B9-9EAC-81255CE3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87CA9-66D2-4F95-ABD1-24FB5EBF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BD2BA-988A-48A6-93C9-3D189E40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8285D-4640-4EC8-9387-E75B8720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9CC3-A139-4331-B0C3-56F838A1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D24B1-3350-4B2B-8301-9ECDAB8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D7082-A0A4-4A6A-B048-03426ED8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253A0-E65C-47B5-81E1-1C278F29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A63EC-050C-4167-AE97-747182B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F0511-0703-4873-BE73-FCEBBDB3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FDE8F-6591-4982-9318-40E7D3A7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F6E4C-C3FB-4B8F-9229-377DF8A2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6F91C-6C91-4240-B056-6E16E0C6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2F78F-8621-4CB3-9D2C-F5174DC3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53CE0-DD69-4E3F-850C-FAAA45B4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9554-3A98-49DA-B65F-EC4372D5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DB792-34BF-444E-B4A1-3B3151D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701521-C26B-4D66-AB55-68D37991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A8731-2321-4F4B-A906-0C94B111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8CC82-6E5A-499F-B21F-C6FCF7D9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69742-D3AF-4AF4-BFAA-B4EF44DB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6AF7B-88AD-4222-825B-920E67A1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BE2C6-8FC9-4561-96C4-683C52B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4D47C-8647-4272-9930-AA2B9821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26EAC-3FFB-4D26-BC7B-DBC62905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C06AF3-182F-461B-B9D5-C4D308A3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BF43-AFF8-4F86-A4A1-C28EFBCD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FF442-4172-4BAF-A666-A75411CB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8F5DF-927E-4950-BEF3-D837E328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275757-803F-4D18-9169-96875705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BA39C-25DE-4171-BE61-64307B5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4A39AE-1CC6-47B4-A22F-DB780F65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0B2D1-D793-47C6-87C1-0024A869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4522CF-959B-49D0-846F-800DA558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0E6E3-14D1-488D-A006-530412B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5C4463-61F8-45AC-8120-A4E483C7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EBA875-6B00-4509-B2C0-4C03076B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E8AB-3B6B-48D1-83F5-36D712EF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158D8B-B4E8-4E25-A7F8-53CE480E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53DD09-2DD3-47EF-8627-4A1F1911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CEAEB7-2245-4340-BA99-C8ACAFCF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763BEF-AF15-4AC2-9D7E-C159264C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42139F-1D70-4FA1-93AB-AE399363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177F6C-1A15-45B2-B358-A024689C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AE0DBD-C921-400B-BF8F-DA031FD7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9D8EC-32A9-41A5-B068-F2BFA0B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F762A0-7FE7-49A8-BF56-DDF830C8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52D0E2-8477-427A-86E6-41B56D55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B95BC-6C63-45D8-AFEC-3589A5C3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BDFE58-62C0-4CFF-B13B-44961A6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5E32E8-CA53-4592-AAB4-44FECAA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BCFD93-B87C-498B-83C9-D5716CA1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0000B4-D0FD-4F77-B780-DA5BC60B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61843-055E-4FB2-972F-6DB05245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931E-5E8E-4565-8296-94CB13AC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AA64-C82B-498C-861C-437CD105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C291-F267-4795-9506-EEB99E7A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385-EC02-44BE-A76C-F31E98D6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3FC8-FE55-4A9D-B916-AA24ED50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3DCB-8FE9-4826-A7BB-F2D271D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DDB5-9E1C-4289-9440-9BF01FA1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3D07-E838-43DE-A28D-A1F01EE7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B820-AFE8-434D-AE25-915599E1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FB52-4A39-4ECF-BF39-319A1A46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9821-90E8-4350-BA98-89FA9926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401E-38BF-49C3-820A-96B3E431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821F-4C8E-49A9-9574-603224D3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195B-4DC4-4502-A1B6-3C045F0B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7C5-89C1-4C79-BADB-16D6C800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FDBB-E342-4373-B313-31195148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D983-FE01-4F9B-B910-E7F94C1D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8854-F31B-4485-9B87-4B21ABFE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0C667-9AEA-4BC2-B19B-5EE63F30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111A-2CA6-476F-901E-51D7FE38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7181-9A30-4C04-82F6-70BA4C2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2A47-BAF4-4DDE-A260-1FA4D627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1042-C8C1-4D58-A3D1-F6B81CF2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50F5-79EE-4DAA-8BAC-74CF20AA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AA83-7865-4793-AD56-65158AB4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D26-0EF3-4510-9B3F-79B9A125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8C70B-1194-4FE5-A96D-8B36FD6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53F8E-49F8-4138-9440-075746B6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DEAF-8008-47A3-87FA-ECBA7D94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264D0-86B4-4B47-B3A6-6DCD6E9B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A2F5-98D5-4C9D-AF52-BACE2564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022B0-E645-4AB9-BED8-7F147A9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BA92-657F-479E-8094-D97EDBB7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61DE8-C281-4F34-B0A1-46986DCD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5F5AD-F8D6-4D5D-BFE8-C347B646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984F6-B1CE-40CC-BA41-4B2E952F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CB1-9DF5-4ACD-9199-BA40AE2D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E1F85-F496-4BE7-95C3-638BAEC3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A4B0A-1AA0-4FF9-8A75-0AC970D3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5A25-4CAE-4FB3-B462-0F712BBE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07058-5734-4B53-8D90-61A52C87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5FEA-6A8C-4B79-B146-2EC8E000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0A1B0-518E-4A97-9905-9CC62706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7C03D-1F16-48CB-820E-D567345A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8080-6F0D-4E74-BF51-310BA3C6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99E8F-3272-4BED-A5C7-1510F49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49FC9-22D8-4281-B90F-1B806D2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9A6-D07D-4008-A7DB-4EFDFFAA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97389-7150-4247-BF79-C69D560E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2C2F4-3CFA-4CA0-87C1-5FDAD3A0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BB776-9A2C-46FE-B9EF-483F77CF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AB18-ABB5-4936-8F2C-6057B41E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F32AE-399F-4AB5-9C49-A9D50F01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5B8A-E3B9-43C8-B24A-B2ECBF8F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D090B-C018-4DD2-8EE1-0F6F9FCD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C4C53-C4D0-46BC-9447-4A6773FE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D3277-6BB6-4395-BEA0-05E71411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38E9-D564-47B1-A566-5A2D5525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982-638A-4C6C-926C-05E47958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FF73-C61D-4C67-8EE8-9FE8990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25CF4-670A-4DCF-8992-92D24860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462D7-BD79-4FB7-9C9A-113374FA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BC489-B857-4238-ACA5-6E0F2D9D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D5BD6-B7EF-48B8-9D0B-D14F3F7E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AA2B1-D4E9-4430-A64A-04D72BD2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B0337-D840-4892-A615-65627EAD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A6E13-BE77-4EBE-9DC6-2EBB5AAF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7C8AE-FDB3-4DAE-B394-CDF9115E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7434C-E8AA-45CB-B007-B8C5D15B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6FB-263D-4B58-B6EE-55F4CFC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29814-08FD-4EB4-B743-4BB9557E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C2B27-5FE6-4702-8CA6-CA9B157C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0AFB1-F66D-4388-9917-DDAFC53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75EB0-6708-4A0E-B782-5B7A2D75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47EE4-9CC5-4432-8B81-1520E424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A0B8F-F48F-45B1-BD17-E381450B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E0CC7-425A-4024-A633-03D3488D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C1C42-96BA-47AD-B8DF-C35DA8A4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D13F9-3832-4BCF-9E71-D5795D41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FB2CA-541A-419F-B798-82353824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F50B-29B4-4D64-B5B9-222D874524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4D13-0170-400C-9D40-87C62E4A3E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10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4E8B-308C-4CEE-BE7D-E8925BD31F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7DF1-8180-4111-A903-96038D96ED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3D12-C5F9-4072-8EAB-ACB49D588A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62F4-EBEE-443F-8897-F8957139C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79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582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0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27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628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9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0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3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4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5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6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7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0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76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677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679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9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90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697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2" name="PlaceHolder 1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B33B-BE5B-4953-B21A-78FDDD333DF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744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53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55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92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793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4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5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6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7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8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0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3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4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05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8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842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844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4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855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862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3BDC-4B5F-4053-BE69-8484267C2B1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0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1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2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4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6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96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E6C-A7A8-49C3-9E8D-64864E291C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1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2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6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07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F983-15D5-483E-8DC7-E0D84D3497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1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19C1-743B-4422-91B7-9EDF0E779C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29C9-4234-4C2F-937D-17B25E4BB1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16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F4E1-3EA9-47E4-8EA5-D086D68A45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5504-6F0F-405B-AC19-D17FB81FE0F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ftr" idx="6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0AD7-3E51-4693-B78F-FEB67BF8CEA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C4D5-3117-4FD6-9198-24FCDCCDCB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54A3-6B23-43CD-AD30-42D0028330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BE91-3BDF-4AA6-A1BF-08B0F8BB79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D50E-B51D-47A2-9732-23F0435B29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06B2-0C41-42AD-BE92-39C603EB6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EE89-7F00-4C2E-B38C-D1E097196F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20FD-C4CF-4A66-98D6-8C039DCCA2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9ac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0039ac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0039ac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不良习惯“现象”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早晨上学迟到的理由： “闹钟没响”；“自行车坏了”；“看错时间了” 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“两操”迟到，跑操不好，不认真锻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自习课玩耍，说小话，学习不专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不认真看书复习，每天只是应付作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随地扔垃圾，不将废弃物放入指定位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值日、清洁劳动不认真，应付了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好习惯结好果 坏习惯酿恶果</a:t>
            </a:r>
            <a:br>
              <a:rPr sz="4800"/>
            </a:br>
            <a:r>
              <a:rPr b="0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——我们可以养成的好习惯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永远信守承诺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安排好作息时间，上学上课不迟到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从来不忘记每天复习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快速处理各种琐碎的事务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上课积极倾听，认真听讲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不仅要做计划，而且要马上实施行动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讲究个人卫生，爱护学习、生活环境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与人交谈时，保持良好的姿势和微笑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保证每天的饮食健康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锻炼身体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多读有益的书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控制情绪和脾气，用和平方式解决矛盾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给家人或朋友打电话或写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如何养成成功的习惯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行为心理学研究表明：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以上的重复会形成习惯，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的重复，会形成稳定的习惯，即同一个动作，重复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就会成为习惯性动作。同理，同一个想法，重复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，或重复验证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次，就会变成习惯性想法。所以，一个观念如果被别人或是自己验证了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次以上，它一定已成为你的信念，塑造一个良好的习惯，大致有三个阶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700360" y="18864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c0039"/>
                </a:solidFill>
                <a:latin typeface="幼圆"/>
                <a:ea typeface="幼圆"/>
              </a:rPr>
              <a:t>播种习惯 </a:t>
            </a:r>
            <a:r>
              <a:rPr b="1" lang="zh-CN" sz="4800" spc="-1" strike="noStrike">
                <a:solidFill>
                  <a:srgbClr val="8c0039"/>
                </a:solidFill>
                <a:latin typeface="Arial"/>
              </a:rPr>
              <a:t>·  </a:t>
            </a:r>
            <a:r>
              <a:rPr b="1" lang="zh-CN" sz="4800" spc="-1" strike="noStrike">
                <a:solidFill>
                  <a:srgbClr val="8c0039"/>
                </a:solidFill>
                <a:latin typeface="幼圆"/>
                <a:ea typeface="幼圆"/>
              </a:rPr>
              <a:t>收获成功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6842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步一步的走，漫漫长路有尽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针一针的缝，褴褛之衫变天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砖一瓦的垒，铜墙铁壁耸云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片一片的积，万丈雪层深似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ep and then another, and the longest walk is 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itch and then another, and the longest rent is m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brick upon another, and the tallest wall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flake and then another, and the deepest snow is lai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ff3300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698688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大处着眼，小处着手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百尺高台，起于垒土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当你从小处入手，并借助积累的力量，那么改掉习惯也将变得十分容易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你每天早晨的想法将决定你一整天的表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Your morning thoughts may determine your conduct for the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威廉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M 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派克（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William M. Peck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3454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何度过早晨，决定了我们日常行为规律是否能发挥它潜在的威力。它究竟是由好习惯构成，还是被坏习惯充斥，早晨的时光将彻底揭示问题的答案。如果我们希望自己不至于一生碌碌无为，并能够最大限度地发挥潜能，那么，养成有效利用早晨时光的良好习惯将至关重要。</a:t>
            </a:r>
            <a:r>
              <a:rPr b="1" lang="zh-CN" sz="3200" spc="-1" strike="noStrike">
                <a:solidFill>
                  <a:srgbClr val="ffcc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每天晚上总结一下自己一天里所做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um up at night what thou has done by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罗德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赫尔伯特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(Lord Herb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天中的第二个关键时刻出现在晚上。在心中默默整理和评价一下自己一天中完成的事情，并规划好自己第二天应该做的事情，对于第二天早晨是否能够正确做好计划，以及是否能够拥有一个良好的开端至关重要。制定一天的计划，并坚持执行计划，将让你的工作变得效率更高成绩更大。如果，每一天你都无法完成自己希望完成的事情，那么，你应该反躬自问一下，症结或许就在于缺乏计划。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播种习惯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·  </a:t>
            </a: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收获成功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——事先制定计划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20072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在成功实现目标的人群中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事先制定   计划者高达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78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在改变或培养好习惯的努力过程中，还有一个关键的要素，那便是他人的支持。亲人、朋友，或者同学，都可以成为支持、鼓励、激励你的人选，或成为友善的提醒者——他们完全有可能决定我们究竟是成功地改变生活的某个方面，还是继续糟糕的现状。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Arial"/>
                <a:ea typeface="华文行楷"/>
              </a:rPr>
              <a:t>习惯无处不在</a:t>
            </a:r>
            <a:br>
              <a:rPr sz="6800"/>
            </a:b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           ——学习习惯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1331640" y="3284640"/>
            <a:ext cx="6838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学习成绩的好坏，往往取决于是否有良好的学习习惯，特别是思考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总是站在系统的高度把握知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很多同学在学习中习惯于跟着老师一节一节的走，一章一章的学，不太注意章节与学科整体系统之间的关系，只见树木，不见森林。随着时间推移，所学知识不断增加，就会感到内容繁杂、头绪不清，记忆负担加重。事实上，任何一门学科都有自身的知识结构系统，学习一门学科前首先应了解这一系统，从整体上把握知识，学习每一部分内容都要弄清其在整体系统中的位置，这样做往往使所学知识更容易把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 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追根溯源，寻求事物之间的内在联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学习最忌死记硬背，特别是理科学习，更重要的是弄清楚道理，所以不论学习什么内容，都要问为什么，这样学到的知识似有源上水，有木之本。即使你所提的问题超出了中学知识范围，甚至老师也回答不出来，但这并不要紧，要紧的是对什么事都要有求知欲，好奇心，这往往是培养我们学习兴趣的重要途径，更重要的是养成这种思考习惯，有利于思维品质的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9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5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学习好习惯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(3)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发散思维，养成联想的思维习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在学习中我们应经常注意新旧知识之间、学科之间、所学内容与生活实际等方面的联系，不要孤立的对待知识，养成多角度地去思考问题的习惯，有意识地去训练思维的流畅性、灵活性及独创性，长期下去，必然会促进智力素质的发展。知识的学习主要通过思维活动来实现的，学习的核心就是思维的核心，知识的掌握固然重要，但更重要的是通过知识的学习提高智力素质，智力素质提高了，知识的学习会变得容易。所以上面讲的学习的三个学习习惯实质上是三种思维习惯。学习的重点就是学会如何思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2500"/>
              </a:spcBef>
              <a:buClr>
                <a:srgbClr val="0075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启示：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有自己的错题本、袖珍笔记本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掌握“通法”，用它解决一类问题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听课抬头、自习埋头、走路昂头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定期整理学习资料，做到有序存放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狠抓基础，不懂就问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注重预习和复习，独立完成练习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cc"/>
                </a:solidFill>
                <a:latin typeface="Arial"/>
                <a:ea typeface="华文彩云"/>
              </a:rPr>
              <a:t>讨论与学习</a:t>
            </a:r>
            <a:br>
              <a:rPr sz="7200"/>
            </a:b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——习惯意义非凡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684000" y="2997000"/>
            <a:ext cx="708804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列举几个自己希望改掉的坏习惯，以及期望养成的好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4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华文彩云"/>
              </a:rPr>
              <a:t>与大家共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1186920" y="3284640"/>
            <a:ext cx="74883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即使是痛苦的，我们也要去养成好的习惯；因为如果不这样，坏的习惯会让我们更痛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一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8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班   第四周班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33ff"/>
                </a:solidFill>
                <a:latin typeface="Arial"/>
              </a:rPr>
              <a:t>习惯可以改变的，只要不断重复就可以了。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有一句话是：思想决定行动，行动决定习惯，习惯决定性格，性格决定命运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今天这个游戏告诉我们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2563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Arial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6767ff"/>
                </a:solidFill>
                <a:latin typeface="Arial"/>
                <a:ea typeface="隶书"/>
              </a:rPr>
              <a:t>坏习惯与命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62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有一家食品公司要招聘一位卫生检测员，一位衣冠楚楚、气度不凡的年轻人自信地走进了总经理办公室，他优雅的谈吐，扎实的专业知识赢得了总经理的好感，没想到就在年轻人转身离开的时候，他下意识抠了一下鼻孔，这个不起眼的小动作并没有逃过总经理的眼睛，结果可想而知，一个没有良好卫生习惯的人怎么能够做卫生检测员呢？当然，年轻人到死也不会知道是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抠鼻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坏习惯毁了他的工作，使到手的饭碗落入了他人之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在武汉某高校研究生考点外，一考生被几个保安人员拦下，被告知超过了规定入场时间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，眼睁睁地失去了考试资格。该考生说，为了专心备考，他辞掉了网络公司的工作，牺牲了很多东西，到头来却因为这个缘故被拒之门外。在上海，也有考研生因为进不了考场而痛哭流涕，其中一位不断向老师苦苦哀求：“我为今年考研已经准备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我很有信心考上，老师给我一次机会吧。”类似的情形其他地方也存在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泪水，值得同情；规则，应该遵守。 须知，“守时”，既是一种行为规范，也是一种必不可少的品格修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高校的几位学者，有一次到国外参加会议期间，按照约定，拟与某一外国组织成员开个座谈会。不料，我们的这几位学者不知什么缘故迟到了几分钟。结果，对方彬彬有礼地退了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title"/>
          </p:nvPr>
        </p:nvSpPr>
        <p:spPr>
          <a:xfrm>
            <a:off x="2340000" y="-360"/>
            <a:ext cx="4968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</a:rPr>
              <a:t>坏习惯与命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d7da9"/>
                </a:solidFill>
                <a:latin typeface="Arial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007572"/>
                </a:solidFill>
                <a:latin typeface="Arial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77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如果你希望出类拔萃，也希望生活方式与众不同，那么，你必须明白一点——是你的习惯决定着你的未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If you want to distance yourself from the masses and enjoy a unique lifestyle, understand this——your habits will determine your future.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杰克</a:t>
            </a:r>
            <a:r>
              <a:rPr b="1" lang="en-US" sz="2800" spc="-1" strike="noStrike">
                <a:solidFill>
                  <a:srgbClr val="0033cc"/>
                </a:solidFill>
                <a:latin typeface="Gulim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坎菲尔德（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Jack Canfield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），全球畅销书《心灵鸡汤》的作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597672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幼圆"/>
                <a:ea typeface="幼圆"/>
              </a:rPr>
              <a:t>说说自己 关于“好习惯” “坏习惯” 的故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 rot="5400000">
            <a:off x="5495040" y="2218320"/>
            <a:ext cx="377172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交流空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900000" y="112536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身边的榜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314" name=""/>
          <p:cNvSpPr/>
          <p:nvPr/>
        </p:nvSpPr>
        <p:spPr>
          <a:xfrm>
            <a:off x="1116000" y="3213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发现身边同学的好习惯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      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不良习惯“现象”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上课了，有的同学才手忙脚乱的翻找试卷、练习本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考试前想到了一个题，但就是忘记记在哪里了，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考试失败的原因：“看错题了”；“答案涂错了”；“看错要求了” 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24000" y="4365720"/>
            <a:ext cx="79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、简单题没耐心做，困难题没恒心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简单事不屑做，    困难事胆怯做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小事做不来，        大事做不成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2:40:4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7:20Z</dcterms:modified>
  <cp:revision>50</cp:revision>
  <dc:subject>主题班会课件(分28大类): http://shop62905894.taobao.com</dc:subject>
  <dc:title>主题班会课件(分28大类): http://shop62905894.taobao.com</dc:title>
</cp:coreProperties>
</file>